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519-A30B-4949-B1B4-F433527C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347-1AAC-4431-9ACD-2E142DBF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535-74B8-4214-B581-4CD53DE1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C15-A9E0-40D4-9116-086FC122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0300-599B-4951-97A0-1469F4D6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C9A1-59B6-4C7C-9B93-E2F648AA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09E8-95CB-4A5A-AD03-055B2A23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0692-5E79-40B5-BF4F-24F5C275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35A3-F205-4DAF-8812-6A55DAD9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4CCD-A2E0-4090-B586-2A8C3F57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79B2-30BE-4FD2-8767-BF8146CA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ED5-1982-40E0-95CB-631DF760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C7CC-FD2A-4B53-9E88-E9C88B9F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977E-85B0-4609-84DD-FA7C6C4E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9B3C-5E12-40FE-9BD1-EF010D42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1092-59D0-4852-9F10-28FF03A5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3DB3-987F-452B-AB1E-7C928F38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E3A-0EA5-48D0-9954-55A0F95E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117F-73EE-4EF7-BB86-A126F73D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ACF-AE68-429A-8200-F81EEFBB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D71-F07D-4455-8329-2CE2CAD4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190A-EB76-4971-AEDA-044191C5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C4C-75A4-40D7-A003-392EB328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206-F2D1-49CF-8C78-6538B542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자유형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직각 삼각형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직선 연결선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직각 삼각형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ko-KR" sz="4800" spc="-1" strike="noStrike">
                <a:solidFill>
                  <a:srgbClr val="464646"/>
                </a:solidFill>
                <a:latin typeface="Lucida Sans Unicode"/>
              </a:rPr>
              <a:t>마스터 제목 스타일 편집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그룹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자유형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자유형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자유형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직선 연결선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AB24A5-FD84-49F9-BAEB-71D1602F9C1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자유형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자유형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직각 삼각형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직선 연결선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마스터 텍스트 스타일을 편집합니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ko-KR" sz="2300" spc="-1" strike="noStrike">
                <a:solidFill>
                  <a:srgbClr val="000000"/>
                </a:solidFill>
                <a:latin typeface="Lucida Sans Unicode"/>
              </a:rPr>
              <a:t>둘째 수준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ko-KR" sz="2100" spc="-1" strike="noStrike">
                <a:solidFill>
                  <a:srgbClr val="000000"/>
                </a:solidFill>
                <a:latin typeface="Lucida Sans Unicode"/>
              </a:rPr>
              <a:t>셋째 수준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ko-KR" sz="1900" spc="-1" strike="noStrike">
                <a:solidFill>
                  <a:srgbClr val="000000"/>
                </a:solidFill>
                <a:latin typeface="Lucida Sans Unicode"/>
              </a:rPr>
              <a:t>넷째 수준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다섯째 수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992D9E-2689-4568-80C4-43ED4E6CE51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마스터 제목 스타일 편집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800" spc="-1" strike="noStrike">
                <a:solidFill>
                  <a:srgbClr val="464646"/>
                </a:solidFill>
                <a:latin typeface="Lucida Sans Unicode"/>
              </a:rPr>
              <a:t>서열정렬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0040" y="442908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 fontScale="87000"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2010.11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Written By </a:t>
            </a:r>
            <a:r>
              <a:rPr b="0" lang="ko-KR" sz="2700" spc="-1" strike="noStrike">
                <a:solidFill>
                  <a:srgbClr val="464646"/>
                </a:solidFill>
                <a:latin typeface="Lucida Sans Unicode"/>
              </a:rPr>
              <a:t>배형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dot-matrix representatio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7120" y="1857240"/>
            <a:ext cx="8229240" cy="114264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chemeClr val="accent2"/>
                </a:solidFill>
                <a:latin typeface="Lucida Sans Unicode"/>
              </a:rPr>
              <a:t>최적 정렬 방법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847224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. Optimal align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- proven mathmatically to produce the best-scoring between two sequenc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or a given scoring syste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2. Global and local align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- A global alignment program -&gt; </a:t>
            </a:r>
            <a:r>
              <a:rPr b="0" lang="en-US" sz="1600" spc="-1" strike="noStrike">
                <a:solidFill>
                  <a:srgbClr val="ff0000"/>
                </a:solidFill>
                <a:latin typeface="Lucida Sans Unicode"/>
              </a:rPr>
              <a:t>Needleman-Wunsch algorith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- A local alignment program   -&gt; </a:t>
            </a:r>
            <a:r>
              <a:rPr b="0" lang="en-US" sz="1600" spc="-1" strike="noStrike">
                <a:solidFill>
                  <a:srgbClr val="ff0000"/>
                </a:solidFill>
                <a:latin typeface="Lucida Sans Unicode"/>
              </a:rPr>
              <a:t>Smith-Waterman algorith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3. Choice in dynamic programm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- alignments obtained depend on the choice of a scoring system for comparing character pairs and on penalty scores for gap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4. Alignments, alignment scores, and alterative align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5. Analysis goa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Dayhoff PAM matrices 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-&gt; evolutionary model of protein chang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62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- BLOSUM matrices       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-&gt;  identify members of the same family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Dynamic Programming Method 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2500200"/>
            <a:ext cx="8229240" cy="86796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Needleman-wunsch algorith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576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matrix D(I, j) indexed by residues of each sequence i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ilt recursively, such tha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(i; j) = max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D(i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1,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j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1) +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s(xi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yj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(i -1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1; j)  +  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(i; j -,1)    +  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ubject to a boundary conditions. s(I, j) is the substitu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core for residues i and j, and g is the gap penal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mathematic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7120" y="1357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Needleman-Wunsch algorithm consists of three step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Initialisation of the score matri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Calculation of scores and filling th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ceback matri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Deducing the alignment from the tracebac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tri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overview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481400"/>
            <a:ext cx="90007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alignment of two sequences SEND and AND with th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LOSUM62 substitution matrix and gap opening penal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f 10 (no gap extension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AND score: +1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-ND score: +3 the be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-D score: -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D- score: -8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Consider the simple examp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내용 개체 틀 6"/>
          <p:cNvGraphicFramePr/>
          <p:nvPr/>
        </p:nvGraphicFramePr>
        <p:xfrm>
          <a:off x="642960" y="2643120"/>
          <a:ext cx="3571560" cy="2664000"/>
        </p:xfrm>
        <a:graphic>
          <a:graphicData uri="http://schemas.openxmlformats.org/drawingml/2006/table">
            <a:tbl>
              <a:tblPr/>
              <a:tblGrid>
                <a:gridCol w="714240"/>
                <a:gridCol w="714240"/>
                <a:gridCol w="714240"/>
                <a:gridCol w="71424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3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4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score and traceback matrice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직사각형 3"/>
          <p:cNvSpPr/>
          <p:nvPr/>
        </p:nvSpPr>
        <p:spPr>
          <a:xfrm>
            <a:off x="642960" y="1285920"/>
            <a:ext cx="8357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ells of the score matrix are labelled C(I,j)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 = 1; 2; :::;N and j = 1; 2; :::;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내용 개체 틀 6"/>
          <p:cNvGraphicFramePr/>
          <p:nvPr/>
        </p:nvGraphicFramePr>
        <p:xfrm>
          <a:off x="4714920" y="2643120"/>
          <a:ext cx="3571560" cy="2664000"/>
        </p:xfrm>
        <a:graphic>
          <a:graphicData uri="http://schemas.openxmlformats.org/drawingml/2006/table">
            <a:tbl>
              <a:tblPr/>
              <a:tblGrid>
                <a:gridCol w="714240"/>
                <a:gridCol w="714240"/>
                <a:gridCol w="714240"/>
                <a:gridCol w="71424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C(1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3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C(4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8"/>
          <p:cNvSpPr/>
          <p:nvPr/>
        </p:nvSpPr>
        <p:spPr>
          <a:xfrm>
            <a:off x="1357200" y="221472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142920" y="3214800"/>
            <a:ext cx="356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Initializatio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39" name="내용 개체 틀 6"/>
          <p:cNvGraphicFramePr/>
          <p:nvPr/>
        </p:nvGraphicFramePr>
        <p:xfrm>
          <a:off x="1000080" y="2571840"/>
          <a:ext cx="3701880" cy="2786040"/>
        </p:xfrm>
        <a:graphic>
          <a:graphicData uri="http://schemas.openxmlformats.org/drawingml/2006/table">
            <a:tbl>
              <a:tblPr/>
              <a:tblGrid>
                <a:gridCol w="844560"/>
                <a:gridCol w="714240"/>
                <a:gridCol w="714240"/>
                <a:gridCol w="714240"/>
                <a:gridCol w="714240"/>
              </a:tblGrid>
              <a:tr h="69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4"/>
          <p:cNvSpPr/>
          <p:nvPr/>
        </p:nvSpPr>
        <p:spPr>
          <a:xfrm>
            <a:off x="642960" y="1143000"/>
            <a:ext cx="7286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first row and the the first column of the scor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raceback matrices are filled during the 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1357200" y="221472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571320" y="3000240"/>
            <a:ext cx="356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내용 개체 틀 6"/>
          <p:cNvGraphicFramePr/>
          <p:nvPr/>
        </p:nvGraphicFramePr>
        <p:xfrm>
          <a:off x="5072040" y="2643120"/>
          <a:ext cx="3571560" cy="2664000"/>
        </p:xfrm>
        <a:graphic>
          <a:graphicData uri="http://schemas.openxmlformats.org/drawingml/2006/table">
            <a:tbl>
              <a:tblPr/>
              <a:tblGrid>
                <a:gridCol w="857160"/>
                <a:gridCol w="642600"/>
                <a:gridCol w="642600"/>
                <a:gridCol w="71424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44" name="TextBox 10"/>
          <p:cNvSpPr/>
          <p:nvPr/>
        </p:nvSpPr>
        <p:spPr>
          <a:xfrm>
            <a:off x="5715000" y="221472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85840" y="1428840"/>
            <a:ext cx="885780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core matrix cells are filled by row starting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om the cell C(2; 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core of any cell C(I,j) is the maximum of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qdiag =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C(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j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1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+ S(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p    = C(i–1, j)      + 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sv-SE" sz="2700" spc="-1" strike="noStrike">
                <a:solidFill>
                  <a:srgbClr val="000000"/>
                </a:solidFill>
                <a:latin typeface="Lucida Sans Unicode"/>
              </a:rPr>
              <a:t>qleft  =  C(i, j-1)      + 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S(i; j) is the substitution score for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ters i and j, and g is the gap penal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Scoring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04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Outlin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5840" y="1500120"/>
            <a:ext cx="8643600" cy="414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ko-KR" sz="2700" spc="-1" strike="noStrike">
                <a:solidFill>
                  <a:srgbClr val="464646"/>
                </a:solidFill>
                <a:latin typeface="Lucida Sans Unicode"/>
              </a:rPr>
              <a:t>서열분석 목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Pairwise alignment/Multiple Sequence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t-matrix represent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Needleman-wunsch algorith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mith-Waterman algorith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P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BLOS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alculation for the cell C(2; 2)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diag =  C(1, 1) + S(S, A) = 0 + 1   =   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p =  C(1, 2) + g = 10 + (-10) = -2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left   =  C(2, 1) + g = 10 + (-10) = -2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C(1,1), C(1, 2), and C(2,1) are read from the score matrix, and S(S,A) is the score for the S &lt;-&gt; A taken from the BLOSUM62 matri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value of C(2,2)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60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Filling the score and traceback matric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직사각형 3"/>
          <p:cNvSpPr/>
          <p:nvPr/>
        </p:nvSpPr>
        <p:spPr>
          <a:xfrm>
            <a:off x="357120" y="1214280"/>
            <a:ext cx="8500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the score matrix C(2, 2) = qdiag  which is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orresponding cell of the traceback matrix is "diag"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내용 개체 틀 6"/>
          <p:cNvGraphicFramePr/>
          <p:nvPr/>
        </p:nvGraphicFramePr>
        <p:xfrm>
          <a:off x="1000080" y="2571840"/>
          <a:ext cx="3701880" cy="2786040"/>
        </p:xfrm>
        <a:graphic>
          <a:graphicData uri="http://schemas.openxmlformats.org/drawingml/2006/table">
            <a:tbl>
              <a:tblPr/>
              <a:tblGrid>
                <a:gridCol w="844560"/>
                <a:gridCol w="714240"/>
                <a:gridCol w="714240"/>
                <a:gridCol w="714240"/>
                <a:gridCol w="714240"/>
              </a:tblGrid>
              <a:tr h="69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-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내용 개체 틀 6"/>
          <p:cNvGraphicFramePr/>
          <p:nvPr/>
        </p:nvGraphicFramePr>
        <p:xfrm>
          <a:off x="5072040" y="2643120"/>
          <a:ext cx="3571560" cy="2664000"/>
        </p:xfrm>
        <a:graphic>
          <a:graphicData uri="http://schemas.openxmlformats.org/drawingml/2006/table">
            <a:tbl>
              <a:tblPr/>
              <a:tblGrid>
                <a:gridCol w="857160"/>
                <a:gridCol w="714240"/>
                <a:gridCol w="642600"/>
                <a:gridCol w="64260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9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dia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53" name="TextBox 6"/>
          <p:cNvSpPr/>
          <p:nvPr/>
        </p:nvSpPr>
        <p:spPr>
          <a:xfrm>
            <a:off x="1928880" y="214308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571320" y="3143160"/>
            <a:ext cx="356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traceback path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56" name="내용 개체 틀 6"/>
          <p:cNvGraphicFramePr/>
          <p:nvPr/>
        </p:nvGraphicFramePr>
        <p:xfrm>
          <a:off x="1071360" y="2000160"/>
          <a:ext cx="3571560" cy="2736000"/>
        </p:xfrm>
        <a:graphic>
          <a:graphicData uri="http://schemas.openxmlformats.org/drawingml/2006/table">
            <a:tbl>
              <a:tblPr/>
              <a:tblGrid>
                <a:gridCol w="857160"/>
                <a:gridCol w="714240"/>
                <a:gridCol w="642600"/>
                <a:gridCol w="642600"/>
                <a:gridCol w="71424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9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dia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di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64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di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</a:tbl>
          </a:graphicData>
        </a:graphic>
      </p:graphicFrame>
      <p:sp>
        <p:nvSpPr>
          <p:cNvPr id="157" name="직사각형 4"/>
          <p:cNvSpPr/>
          <p:nvPr/>
        </p:nvSpPr>
        <p:spPr>
          <a:xfrm>
            <a:off x="642960" y="1214280"/>
            <a:ext cx="8000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traceback performed on the completed traceback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2000160" y="164304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           E       N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642960" y="2786040"/>
            <a:ext cx="356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4714920" y="421488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raceback star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직선 화살표 연결선 9"/>
          <p:cNvCxnSpPr/>
          <p:nvPr/>
        </p:nvCxnSpPr>
        <p:spPr>
          <a:xfrm flipH="1" flipV="1">
            <a:off x="3714480" y="3714480"/>
            <a:ext cx="357480" cy="3574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62" name="원호 10"/>
          <p:cNvSpPr/>
          <p:nvPr/>
        </p:nvSpPr>
        <p:spPr>
          <a:xfrm rot="12592800">
            <a:off x="4426920" y="4152960"/>
            <a:ext cx="1087920" cy="714960"/>
          </a:xfrm>
          <a:prstGeom prst="arc">
            <a:avLst>
              <a:gd name="adj1" fmla="val 8839282"/>
              <a:gd name="adj2" fmla="val 18757155"/>
            </a:avLst>
          </a:prstGeom>
          <a:noFill/>
          <a:ln>
            <a:solidFill>
              <a:srgbClr val="2da2bf"/>
            </a:solidFill>
            <a:round/>
            <a:headEnd len="med" type="triangle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63" name="직선 화살표 연결선 11"/>
          <p:cNvCxnSpPr/>
          <p:nvPr/>
        </p:nvCxnSpPr>
        <p:spPr>
          <a:xfrm flipH="1" flipV="1">
            <a:off x="3071520" y="3000240"/>
            <a:ext cx="357480" cy="3574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64" name="직선 화살표 연결선 12"/>
          <p:cNvCxnSpPr/>
          <p:nvPr/>
        </p:nvCxnSpPr>
        <p:spPr>
          <a:xfrm flipH="1" flipV="1">
            <a:off x="2428560" y="3071520"/>
            <a:ext cx="572040" cy="21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65" name="직선 화살표 연결선 15"/>
          <p:cNvCxnSpPr/>
          <p:nvPr/>
        </p:nvCxnSpPr>
        <p:spPr>
          <a:xfrm flipH="1" flipV="1">
            <a:off x="1714320" y="2428560"/>
            <a:ext cx="357480" cy="35784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66" name="직사각형 17"/>
          <p:cNvSpPr/>
          <p:nvPr/>
        </p:nvSpPr>
        <p:spPr>
          <a:xfrm>
            <a:off x="5143680" y="2357280"/>
            <a:ext cx="1499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 E 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- 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214280"/>
            <a:ext cx="892944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alignment is over the entire length of two sequenc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traceback starts from the lower right corner of th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aceback matrix, and completes in the upper left cell o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matrix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Needleman-Wunsch algorithm works in the sam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ay regardless of the length or complexity o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quences, and guarantees to  find the best align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Needleman-Wunsch algorithm is appropriate f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nding the best alignment of two sequenc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ich are (i) of the similar length; (ii) similar across thei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tire lengt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summary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235728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    </a:t>
            </a: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Smith-Waterman algorith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28760" y="1357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Local Alignment 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알고리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주어진 치환행렬과 갭 감점을 기반으로 두서열의 유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사도가 높은 영역을정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최적의점수를기록한서열의정렬을찾아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부분적인정렬스코어를가진</a:t>
            </a: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2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차원의테이블을만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안의 각셀은 최적의 부분정렬을 찾아 낼수 있는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스코어를 포함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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700" spc="-1" strike="noStrike">
                <a:solidFill>
                  <a:srgbClr val="000000"/>
                </a:solidFill>
                <a:latin typeface="굴림체"/>
                <a:ea typeface="굴림체"/>
              </a:rPr>
              <a:t>두서열의 상동성 검색에 사용됨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굴림체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overview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 rot="5400000">
            <a:off x="2214720" y="-642600"/>
            <a:ext cx="4643280" cy="8500680"/>
          </a:xfrm>
          <a:prstGeom prst="rect">
            <a:avLst/>
          </a:prstGeom>
          <a:ln w="9525">
            <a:noFill/>
          </a:ln>
        </p:spPr>
      </p:pic>
      <p:sp>
        <p:nvSpPr>
          <p:cNvPr id="173" name="직사각형 6"/>
          <p:cNvSpPr/>
          <p:nvPr/>
        </p:nvSpPr>
        <p:spPr>
          <a:xfrm>
            <a:off x="1571760" y="500040"/>
            <a:ext cx="5632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92d050"/>
                </a:solidFill>
                <a:latin typeface="Lucida Sans Unicode"/>
              </a:rPr>
              <a:t>Smith-Waterma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The mathematic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 rot="5400000">
            <a:off x="2135880" y="-421200"/>
            <a:ext cx="4872240" cy="8572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 rot="5400000">
            <a:off x="1500120" y="-928440"/>
            <a:ext cx="6143400" cy="8572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2286000"/>
            <a:ext cx="8229240" cy="1142640"/>
          </a:xfrm>
          <a:prstGeom prst="rect">
            <a:avLst/>
          </a:prstGeom>
          <a:noFill/>
          <a:ln w="0">
            <a:solidFill>
              <a:srgbClr val="92d050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Substitution Matrix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서열분석의 목적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642960" y="1571760"/>
            <a:ext cx="778644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분자생물학의 경험적 지식 사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두 분자가 유사한 서열을 가지면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진화적인 관계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물리 화학적인 제약때문에 유사한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차원구조와 비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슷한 생물학적 기능을 갖기 쉽다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뉴클레오티드 또는  아미노산 서열로 쓰여진 고차원 의 구조와 기능적인 정보를 밝혀내기 위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구조적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기능적 속성으로 확장 될 수 있는 서열 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Lucida Sans Unicode"/>
              </a:rPr>
              <a:t>징을 찾고자 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320" cy="10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What is Substitution Matrix(Score Matrix)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직사각형 3"/>
          <p:cNvSpPr/>
          <p:nvPr/>
        </p:nvSpPr>
        <p:spPr>
          <a:xfrm>
            <a:off x="428760" y="1285920"/>
            <a:ext cx="80006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정의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어떤 아미노산이가 다른 아미노산로 치환되었을때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전체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단백질에영향을 미치는 확률적인 정도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서열정렬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아미노산이 서로 비슷한 정도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4"/>
          <p:cNvSpPr/>
          <p:nvPr/>
        </p:nvSpPr>
        <p:spPr>
          <a:xfrm>
            <a:off x="428760" y="3000240"/>
            <a:ext cx="65005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치환행렬의 기본형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og (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공통조상에 의한 확률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우연에 의한 확률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직사각형 5"/>
          <p:cNvSpPr/>
          <p:nvPr/>
        </p:nvSpPr>
        <p:spPr>
          <a:xfrm>
            <a:off x="428760" y="4000680"/>
            <a:ext cx="74293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가장 단순한 형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실무율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all-or-not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ij= 1 or 0 (1 for i=j, 0 for the r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ayhoff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등이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96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년대 중반부터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72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개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family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에 속하는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572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개의 단백질 서열데이터와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airwise alignment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방법을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이용하여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2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가지 아미노산이 치환될 확률을 통계적으로 분석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PAM1, PAM10, PAM20,…., PAM500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처럼 뒤에 나오는 숫자는 단위 진화시간이 그숫자  만큼 반복할 경우 나타날 아미노산 치환확률이다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즉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, PAM1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은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AM1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을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번 곱해서 만들고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AM1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단위의 진화적 시간이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10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번 반복될경우 나타나는 아미노산의 치환확률의 수치화된 표현이다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Lucida Sans Unicode"/>
              </a:rPr>
              <a:t>일반적 기본값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: PAM120 or PAM250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(Point Accepted Mutation)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11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 PAM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이란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?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00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개의 아미노산중 치환돌연변이 가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개 존재할때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따라서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AM </a:t>
            </a: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단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Lucida Sans Unicode"/>
              </a:rPr>
              <a:t>위는 진화적 거리의 척도로도 사용된다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Uni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 rot="5400000">
            <a:off x="2929320" y="356760"/>
            <a:ext cx="3357360" cy="7929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Matrix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 rot="5400000">
            <a:off x="2143080" y="-357120"/>
            <a:ext cx="5000400" cy="8429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7120" y="-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Matrix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 rot="5400000">
            <a:off x="-506160" y="1434600"/>
            <a:ext cx="5870160" cy="4428720"/>
          </a:xfrm>
          <a:prstGeom prst="rect">
            <a:avLst/>
          </a:prstGeom>
          <a:ln w="9525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 rot="5400000">
            <a:off x="3822120" y="1607040"/>
            <a:ext cx="6000480" cy="4214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85840" y="14288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teven Henikoff 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등이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992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년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M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을 개선하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위하여 고안되었고 따라서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M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보다 우수한결과를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제공한다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BLOSUM(m) 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의 형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m 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은 다중서열일치정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일반적 기본값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BLOSUM62 (NCBI</a:t>
            </a:r>
            <a:r>
              <a:rPr b="0" lang="ko-KR" sz="2700" spc="-1" strike="noStrike">
                <a:solidFill>
                  <a:srgbClr val="000000"/>
                </a:solidFill>
                <a:latin typeface="Lucida Sans Unicode"/>
              </a:rPr>
              <a:t>의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ASTP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 BLOSUM50 (FAST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60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BLOSUM (Blocks Substitution Matrix)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BLOSUM </a:t>
            </a:r>
            <a:r>
              <a:rPr b="1" lang="ko-KR" sz="4100" spc="-1" strike="noStrike">
                <a:solidFill>
                  <a:srgbClr val="ff0000"/>
                </a:solidFill>
                <a:latin typeface="Lucida Sans Unicode"/>
              </a:rPr>
              <a:t>행렬 형성 과정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 rot="5400000">
            <a:off x="2179080" y="-535680"/>
            <a:ext cx="4571640" cy="8357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BLOSUM Matrix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 rot="5400000">
            <a:off x="-178200" y="1607040"/>
            <a:ext cx="5214600" cy="4571640"/>
          </a:xfrm>
          <a:prstGeom prst="rect">
            <a:avLst/>
          </a:prstGeom>
          <a:ln w="9525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 rot="5400000">
            <a:off x="4160160" y="1840680"/>
            <a:ext cx="5209920" cy="4100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0000"/>
                </a:solidFill>
                <a:latin typeface="Lucida Sans Unicode"/>
              </a:rPr>
              <a:t>PAM vs. BLOSU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 rot="5400000">
            <a:off x="3786480" y="-1142640"/>
            <a:ext cx="1571400" cy="8714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서열분석 방법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14240" y="1214280"/>
            <a:ext cx="7071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서열 해석에 대한 두가지 접근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서열유사성 검색 또는 상동성 검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모티브 검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6" descr="a"/>
          <p:cNvPicPr/>
          <p:nvPr/>
        </p:nvPicPr>
        <p:blipFill>
          <a:blip r:embed="rId1"/>
          <a:stretch/>
        </p:blipFill>
        <p:spPr>
          <a:xfrm>
            <a:off x="714240" y="2500200"/>
            <a:ext cx="7515000" cy="3238200"/>
          </a:xfrm>
          <a:prstGeom prst="rect">
            <a:avLst/>
          </a:prstGeom>
          <a:ln w="9525">
            <a:noFill/>
          </a:ln>
        </p:spPr>
      </p:pic>
      <p:sp>
        <p:nvSpPr>
          <p:cNvPr id="105" name="Rectangle 38"/>
          <p:cNvSpPr/>
          <p:nvPr/>
        </p:nvSpPr>
        <p:spPr>
          <a:xfrm>
            <a:off x="2857320" y="5286240"/>
            <a:ext cx="2015640" cy="75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ko-KR" sz="1800" spc="-1" strike="noStrike">
                <a:solidFill>
                  <a:srgbClr val="ff0000"/>
                </a:solidFill>
                <a:latin typeface="Times New Roman"/>
                <a:ea typeface="바탕"/>
              </a:rPr>
              <a:t>여전히 가장 선호 </a:t>
            </a:r>
            <a:br>
              <a:rPr sz="1800"/>
            </a:br>
            <a:r>
              <a:rPr b="1" lang="ko-KR" sz="1800" spc="-1" strike="noStrike">
                <a:solidFill>
                  <a:srgbClr val="ff0000"/>
                </a:solidFill>
                <a:latin typeface="Times New Roman"/>
                <a:ea typeface="바탕"/>
              </a:rPr>
              <a:t>되는 접근 방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5357880" y="4429080"/>
            <a:ext cx="3239640" cy="75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ko-KR" sz="1800" spc="-1" strike="noStrike">
                <a:solidFill>
                  <a:srgbClr val="ff0000"/>
                </a:solidFill>
                <a:latin typeface="Times New Roman"/>
                <a:ea typeface="바탕"/>
              </a:rPr>
              <a:t>모든 형태의 기능 속성에 대한 경험적인 법칙들을 만드는 것이 가능 하지 않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서열 정렬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28760" y="1500120"/>
            <a:ext cx="8072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최적의 서열 정렬을 얻는 문제는 전반적인 유사성을 나타내는 점수 함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Score Function)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를 최적화 하는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공백은 일치하는 문자쌍의 수를 최대화하거나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치환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그리고 삽입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삭제와 같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은 편집 연산의 수를 최소화 하기 위해서 추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core Function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은 아미노산 또는 뉴클레오티드들 사이의 유사성 측정값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삽입 및 삭제에 대한 벌점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penalties)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을 통해 계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제목 2"/>
          <p:cNvSpPr/>
          <p:nvPr/>
        </p:nvSpPr>
        <p:spPr>
          <a:xfrm>
            <a:off x="214200" y="3929040"/>
            <a:ext cx="8229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7000"/>
            <a:scene3d>
              <a:camera prst="orthographicFront"/>
              <a:lightRig dir="t" rig="soft"/>
            </a:scene3d>
            <a:sp3d prstMaterial="softEdge">
              <a:bevelT w="25400" h="25400"/>
            </a:sp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ko-KR" sz="4100" spc="-1" strike="noStrike">
                <a:solidFill>
                  <a:srgbClr val="464646"/>
                </a:solidFill>
                <a:latin typeface="Lucida Sans Unicode"/>
              </a:rPr>
              <a:t>서열 정렬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357120" y="4643280"/>
            <a:ext cx="80722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lobal 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정렬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amp; Local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정렬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전체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부분적인 유사 영역 비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air wise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정렬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amp; Multiple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정렬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두개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세개 이상의 서열 정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원 정렬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두가지 단백질의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원 구조 비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-1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 정렬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3</a:t>
            </a:r>
            <a:r>
              <a:rPr b="0" lang="ko-KR" sz="1800" spc="-1" strike="noStrike">
                <a:solidFill>
                  <a:srgbClr val="000000"/>
                </a:solidFill>
                <a:latin typeface="Lucida Sans Unicode"/>
              </a:rPr>
              <a:t>차원 구조 라이브러리에 대한 아미노산 서열 비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est alignment over the entire length of two sequ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itable when the two sequences are of similar length, with a signicant degree of similarity througho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MILA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-LLAR-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240" cy="79668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Global sequence alignme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481400"/>
            <a:ext cx="8929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lving stretches that are shorter than the entire sequences, possibly more than on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itable when comparing substantially different sequences, which possibly differ signicantly in length, and have only a short patches of similarit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example, the local alignment of SIMILARITY and PILLA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L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Local sequence alignme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Pairwise Alignme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 rot="5400000">
            <a:off x="3393360" y="-1249920"/>
            <a:ext cx="2142720" cy="8500680"/>
          </a:xfrm>
          <a:prstGeom prst="rect">
            <a:avLst/>
          </a:prstGeom>
          <a:ln w="9525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 rot="5400000">
            <a:off x="3712680" y="716400"/>
            <a:ext cx="1575720" cy="8572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solidFill>
              <a:srgbClr val="1faecd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92d050"/>
                </a:solidFill>
                <a:latin typeface="Lucida Sans Unicode"/>
              </a:rPr>
              <a:t>Multiple Alignme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 rot="5400000">
            <a:off x="2931480" y="-716760"/>
            <a:ext cx="3566880" cy="8286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광장">
  <a:themeElements>
    <a:clrScheme name="광장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광장">
  <a:themeElements>
    <a:clrScheme name="광장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124</TotalTime>
  <Application>LibreOffice/7.4.7.2$Linux_X86_64 LibreOffice_project/40$Build-2</Application>
  <AppVersion>15.0000</AppVersion>
  <Words>1455</Words>
  <Paragraphs>292</Paragraphs>
  <Company>Custom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0:17:58Z</dcterms:created>
  <dc:creator>Preferred Customer</dc:creator>
  <dc:description/>
  <dc:language>en-US</dc:language>
  <cp:lastModifiedBy>korea</cp:lastModifiedBy>
  <dcterms:modified xsi:type="dcterms:W3CDTF">2010-12-26T06:02:54Z</dcterms:modified>
  <cp:revision>117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화면 슬라이드 쇼(4:3)</vt:lpwstr>
  </property>
  <property fmtid="{D5CDD505-2E9C-101B-9397-08002B2CF9AE}" pid="3" name="Slides">
    <vt:r8>38</vt:r8>
  </property>
</Properties>
</file>